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5B9-787C-4C70-8CEA-2DD25F62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BE04-ACA0-49F3-B75C-869A8824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DAE-B167-4B5F-8C4F-01C3AF59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9E6-1F2B-4A8B-8621-BD45DDC9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2AB-3B2F-49FE-8421-A3A62416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263-1A59-419F-A275-B0A01E5D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4C3-302B-428D-B8F8-F79BCC6D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D35-09BA-4898-A58B-99986A71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AA3-33E5-4389-846D-F32B4E01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87C-97A2-45BB-BA82-586BC009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CF9-1189-400A-8195-6196089F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2ED-D403-4222-B24E-38E41975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865E-5113-47AF-85FE-165770C1E2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Verdana"/>
              </a:rPr>
              <a:t>Go Tell The Good New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Paul’s First Journey”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11, Lesson 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s 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79-8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481-736B-4DC6-A670-2F9CF3C8D71B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Verdana"/>
              </a:rPr>
              <a:t>Paul And Barnabas Return To Antioch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Verdana"/>
              </a:rPr>
              <a:t>Acts 14:21-28</a:t>
            </a:r>
            <a:endParaRPr b="0" lang="en-US" sz="32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ter preaching and making many disciples in Derbe, Paul and Barnabas returned through Lystra, Iconium, and Antio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 they returned through these cities, they strengthened the disciples encouraging them in the fai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appointed elders in every chur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then passed through Pisidia and came to Pamphyl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preached in Perga, then went down to Attal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71F-F5FC-49A8-B2CF-99D2908D5F29}" type="slidenum">
              <a:t>10</a:t>
            </a:fld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Verdana"/>
              </a:rPr>
              <a:t>Paul And Barnabas Return To Antioch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Verdana"/>
              </a:rPr>
              <a:t>Acts 14:21-28</a:t>
            </a:r>
            <a:endParaRPr b="0" lang="en-US" sz="32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om Attalia Paul and Barnabas sailed back to Antioch ending their first journ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re they gathered the church together and reported all that God had done with th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reported that God had opened a door of faith to the Genti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stayed here a long time with the disci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C4E-33B5-47E4-AC7A-B31F3CACA8B5}" type="slidenum">
              <a:t>11</a:t>
            </a:fld>
          </a:p>
        </p:txBody>
      </p:sp>
    </p:spTree>
  </p:cSld>
  <p:transition>
    <p:wedg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Verdana"/>
              </a:rPr>
              <a:t>Points To Remember</a:t>
            </a: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churches needed qualified men to serve as eld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ders were appointed in every chur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men could be qualified quickly becaus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being a faithful J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miraculous gifts of the Spi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ch church had its own elders (plura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ch church was  self-gover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ders are to oversee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Verdana"/>
              </a:rPr>
              <a:t>onl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hat flock among which the Holy Spirit has made them shephe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05B-19BE-4CC3-87BB-05DFE69EE005}" type="slidenum">
              <a:t>12</a:t>
            </a:fld>
          </a:p>
        </p:txBody>
      </p:sp>
    </p:spTree>
  </p:cSld>
  <p:transition>
    <p:blinds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10C-1CD2-4174-9D69-549FD891B7D6}" type="slidenum">
              <a:t>2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t Iconium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cts 14:1-7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iving at Iconium from Antioch, Paul and Barnabas entered the synagogue and began to tea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great number of Jews and Greeks believ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ce again the Jews stirred up the Gentiles causing trou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vertheless, Paul and Barnabas stayed in Iconium a long time preaching bold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plot was hatched to abuse the men and to stone th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673-1D22-4A3C-BBE3-B24D32CC95FC}" type="slidenum">
              <a:t>3</a:t>
            </a:fld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t Iconium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cts 14:1-7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ul and Barnabas learned of the plot and fled to the province of Lycaon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omans had divided this region into two parts. One part was made a part of Galatia and called Galactica Lycaonia. This part ruled by Rome. The other part was called Lycaonia Antiochiana and ruled by king Antioch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ul and Barnabas did not go beyond the Roman part of Lycaonia which contained the cities of Lystra and Derb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758-AFDF-4846-A213-DCFCFBF1229B}" type="slidenum">
              <a:t>4</a:t>
            </a:fld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Paul And Barnabas In Lystra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cts 14:8-20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iving in Lystra, Paul and Barnabas found a man who was lame in the fe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man had never walk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ul, seeing he had faith to be healed, said “stand up straight on your feet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an jumped up and walk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did this man get his faith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the people saw this, they cried out in their own language “the gods have come down in the likeness of men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FFA-DFEA-430C-8D3E-65DCE94AA0E3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Paul And Barnabas In Lystra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cts 14:8-20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nking Paul and Barnabas to be gods, the people called Barnabas, Zeus and Paul, Her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riest of Zeus, whose temple was in front of the city, brought oxen and garlands to the gates, intending to sacrif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Paul and Barnabas saw the sacrifice being prepared, they tore their clothes and ran into the crow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DAA-325E-4A31-AA03-7CB1C5166209}" type="slidenum">
              <a:t>6</a:t>
            </a:fld>
          </a:p>
        </p:txBody>
      </p:sp>
    </p:spTree>
  </p:cSld>
  <p:transition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Paul And Barnabas In Lystra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cts 14:8-20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asked the people, why are you doing this?  We are flesh and blood just like yo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then preached to the people to turn from vain things to the living God who made the heaven, the earth, the sea, and all the things in the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d did not leave Himself without witness for He did good, gave rain from heaven and fruitful seasons, filling their hearts with food and gladn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AE3-D39F-4985-A99D-1A33E8D21A1D}" type="slidenum">
              <a:t>7</a:t>
            </a:fld>
          </a:p>
        </p:txBody>
      </p:sp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Paul And Barnabas In Lystra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cts 14:8-20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ill, it was with great difficulty that Paul and Barnabas stopped the multitude from sacrificing to th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this sermon, Paul did not draw attention to Jewish history or to prophecies which would have meant nothing to these peo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ter this, Jews from Antioch and Iconium came and persuaded the multitude to stone Paul. Thinking him dead they dragged him out of the c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DA8-14F2-4E26-A109-D744E0270D77}" type="slidenum">
              <a:t>8</a:t>
            </a:fld>
          </a:p>
        </p:txBody>
      </p:sp>
    </p:spTree>
  </p:cSld>
  <p:transition>
    <p:strips dir="l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Paul And Barnabas In Lystra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cts 14:8-20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the disciples stood around him, Paul got up and went back into the c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’s recovery was miraculo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next day Paul and Barnabas departed to Derb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55F-AC90-45F9-B93F-7ABD3D2964ED}" type="slidenum">
              <a:t>9</a:t>
            </a:fld>
          </a:p>
        </p:txBody>
      </p:sp>
    </p:spTree>
  </p:cSld>
  <p:transition>
    <p:wheel spokes="1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04:52:28Z</dcterms:created>
  <dc:creator>billy lauderdale</dc:creator>
  <dc:description/>
  <dc:language>en-US</dc:language>
  <cp:lastModifiedBy>billy lauderdale</cp:lastModifiedBy>
  <dcterms:modified xsi:type="dcterms:W3CDTF">2006-11-13T18:19:38Z</dcterms:modified>
  <cp:revision>14</cp:revision>
  <dc:subject/>
  <dc:title>Go Tell The Good News “Paul’s First Journey”</dc:title>
</cp:coreProperties>
</file>